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487-4B96-46CD-8BC8-746511E3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018C-8D74-427F-9298-5BEB10C9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A58-8FD5-4A8F-95BE-9C24FD26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C18-9374-4EDB-A0F7-F52B517E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87AE-D389-495B-8735-094EDF48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D2F-0FA4-4CBD-8A8D-0BBF3D3F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5BE-7128-4690-9DCF-96543A59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E82-F1AB-4D70-9C7D-68C0D2D7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F03-EC32-454F-B67C-0480E10E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84B-C6BA-4E3D-BCEB-DA5DF4D5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F10-326B-4F5C-A7E1-F5B2723A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2BC-F8D1-4599-B394-FFC463EE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B7DE-0446-4A66-8A1D-AEEFDFF33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Univer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By Austin Be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05120" y="533520"/>
            <a:ext cx="48196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How Planets Diff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8120" y="380880"/>
            <a:ext cx="357192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ight Y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09680" y="3808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ife Cycle St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981080" y="533520"/>
            <a:ext cx="51818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stella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304920"/>
            <a:ext cx="39528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S FOR WAT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n is an average s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erature of the Suns core is about 15,000,000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n keeps Earth w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505320" y="228600"/>
            <a:ext cx="1752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U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8120" y="228600"/>
            <a:ext cx="2438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057400" y="533520"/>
            <a:ext cx="53341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eas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343400" cy="5257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4800600" cy="5257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362320" y="609480"/>
            <a:ext cx="4114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y and N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590920" y="685800"/>
            <a:ext cx="4343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lar Eclips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124080" y="6094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alax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114800" y="152280"/>
            <a:ext cx="3886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alax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800600" cy="5181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523880" y="228600"/>
            <a:ext cx="54864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steroids and Comet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610160" y="1676520"/>
            <a:ext cx="4533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7:32:12Z</dcterms:created>
  <dc:creator> </dc:creator>
  <dc:description/>
  <dc:language>en-US</dc:language>
  <cp:lastModifiedBy>Franklin Township School</cp:lastModifiedBy>
  <dcterms:modified xsi:type="dcterms:W3CDTF">2012-03-20T17:33:59Z</dcterms:modified>
  <cp:revision>6</cp:revision>
  <dc:subject/>
  <dc:title>Universe </dc:title>
</cp:coreProperties>
</file>